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323-D67C-40EF-8B6A-F45692C3620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mo with magnet, coil and galvan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events violation of cons of energy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ow voltage is induced in terms of forces o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1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D10D-772E-4325-A4E7-F412BF9D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63F3-4D16-41C4-AE23-AF913899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F167-BF00-4EB3-B277-04993970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1F82-7176-4AFD-BF41-C3E6CDC2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FE7-303A-4CCC-9952-3B59D1B0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721D-EBCB-45F9-A9FB-1801BB9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74C6-4B49-4F1B-94EE-844FCA85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0902-3D33-471F-8CB9-0922481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F38-8DF6-4671-8C4A-FC2A4D2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9138-4266-4C87-91E3-82F75DB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9300-3BE5-49A6-B45E-6C3AAD0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45C2-C1AE-4982-84B9-9D5B067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FC6-293E-4868-9B0F-EAAE765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8703-6B41-49A8-BC98-F645BBC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222-4AB2-4BCC-B73A-3B6F6A8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2321-C871-455C-AAAC-E1D48B51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EFF-9369-4EA3-B297-7D1009E3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9A7F-3765-4975-819C-3C36CE0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FBCB-6EF9-4C03-9600-B8FFDD10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57EE-F894-4E48-8ACB-6235611D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EB58-46B6-4DE7-801B-5788D748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7901-818D-452B-BBFF-175E671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89D6-1BEE-46C0-847F-CA0B8D68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F26B-31F0-4E19-942F-A370DD6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D68-CC8D-43F4-9E31-49981BCFF39C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43D3-7A7D-4132-AF53-1D0CAA6B77C0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99"/>
                </a:solidFill>
                <a:latin typeface="Arial"/>
              </a:rPr>
              <a:t>Magnetism and Induction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NCEA AS 3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ext Chapters: 15,16,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duction can also occur if it is the magnetic field that is moved, rather tha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80643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Magnetic Fl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587520" y="1600200"/>
            <a:ext cx="3408120" cy="453384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211280" y="1484280"/>
            <a:ext cx="447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agnetic field in a circuit is measured as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magnetic flux </a:t>
            </a: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= B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B = mag field str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= area perpendicular to fiel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unit for flux is the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eber W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Magnetic Fl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useful analogy is using a net to catch whitebait in a strea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you don’t hold the net straight up and down, you don’t catch many whitebait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5672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cording to Faraday’s Law, V=Bv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area of the loop in the field is zero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908000" y="2923920"/>
            <a:ext cx="5761080" cy="3389040"/>
            <a:chOff x="1908000" y="2923920"/>
            <a:chExt cx="5761080" cy="3389040"/>
          </a:xfrm>
        </p:grpSpPr>
        <p:grpSp>
          <p:nvGrpSpPr>
            <p:cNvPr id="871" name=""/>
            <p:cNvGrpSpPr/>
            <p:nvPr/>
          </p:nvGrpSpPr>
          <p:grpSpPr>
            <a:xfrm>
              <a:off x="4686120" y="2923920"/>
              <a:ext cx="2355840" cy="3389040"/>
              <a:chOff x="4686120" y="2923920"/>
              <a:chExt cx="2355840" cy="338904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5350320" y="2923920"/>
                <a:ext cx="362160" cy="3389040"/>
                <a:chOff x="5350320" y="2923920"/>
                <a:chExt cx="362160" cy="33890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5350320" y="2923920"/>
                  <a:ext cx="362160" cy="286560"/>
                  <a:chOff x="5350320" y="2923920"/>
                  <a:chExt cx="362160" cy="2865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5350320" y="292428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5350320" y="292392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5350320" y="3544200"/>
                  <a:ext cx="362160" cy="285840"/>
                  <a:chOff x="5350320" y="3544200"/>
                  <a:chExt cx="362160" cy="2858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535032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535032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5350320" y="4785120"/>
                  <a:ext cx="362160" cy="285840"/>
                  <a:chOff x="5350320" y="4785120"/>
                  <a:chExt cx="362160" cy="28584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535032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V="1">
                    <a:off x="535032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5350320" y="4165200"/>
                  <a:ext cx="362160" cy="285840"/>
                  <a:chOff x="5350320" y="4165200"/>
                  <a:chExt cx="362160" cy="2858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35032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535032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5350320" y="5406120"/>
                  <a:ext cx="362160" cy="285840"/>
                  <a:chOff x="5350320" y="5406120"/>
                  <a:chExt cx="362160" cy="2858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535032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V="1">
                    <a:off x="535032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5350320" y="6026400"/>
                  <a:ext cx="362160" cy="286560"/>
                  <a:chOff x="5350320" y="6026400"/>
                  <a:chExt cx="362160" cy="28656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350320" y="602676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V="1">
                    <a:off x="5350320" y="602640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"/>
              <p:cNvGrpSpPr/>
              <p:nvPr/>
            </p:nvGrpSpPr>
            <p:grpSpPr>
              <a:xfrm>
                <a:off x="6015240" y="2923920"/>
                <a:ext cx="361800" cy="3389040"/>
                <a:chOff x="6015240" y="2923920"/>
                <a:chExt cx="361800" cy="338904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6015240" y="2923920"/>
                  <a:ext cx="361800" cy="286560"/>
                  <a:chOff x="6015240" y="2923920"/>
                  <a:chExt cx="361800" cy="28656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6015240" y="292428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6015240" y="292392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015240" y="3544200"/>
                  <a:ext cx="361800" cy="285840"/>
                  <a:chOff x="6015240" y="3544200"/>
                  <a:chExt cx="361800" cy="28584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601524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V="1">
                    <a:off x="601524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015240" y="4785120"/>
                  <a:ext cx="361800" cy="285840"/>
                  <a:chOff x="6015240" y="4785120"/>
                  <a:chExt cx="361800" cy="28584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601524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V="1">
                    <a:off x="601524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6015240" y="4165200"/>
                  <a:ext cx="361800" cy="285840"/>
                  <a:chOff x="6015240" y="4165200"/>
                  <a:chExt cx="361800" cy="2858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601524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V="1">
                    <a:off x="601524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"/>
                <p:cNvGrpSpPr/>
                <p:nvPr/>
              </p:nvGrpSpPr>
              <p:grpSpPr>
                <a:xfrm>
                  <a:off x="6015240" y="5406120"/>
                  <a:ext cx="361800" cy="285840"/>
                  <a:chOff x="6015240" y="5406120"/>
                  <a:chExt cx="361800" cy="2858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601524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V="1">
                    <a:off x="601524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6015240" y="6026400"/>
                  <a:ext cx="361800" cy="286560"/>
                  <a:chOff x="6015240" y="6026400"/>
                  <a:chExt cx="361800" cy="28656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6015240" y="602676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V="1">
                    <a:off x="6015240" y="602640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0" name=""/>
              <p:cNvGrpSpPr/>
              <p:nvPr/>
            </p:nvGrpSpPr>
            <p:grpSpPr>
              <a:xfrm>
                <a:off x="6679800" y="2923920"/>
                <a:ext cx="362160" cy="3389040"/>
                <a:chOff x="6679800" y="2923920"/>
                <a:chExt cx="362160" cy="3389040"/>
              </a:xfrm>
            </p:grpSpPr>
            <p:grpSp>
              <p:nvGrpSpPr>
                <p:cNvPr id="911" name=""/>
                <p:cNvGrpSpPr/>
                <p:nvPr/>
              </p:nvGrpSpPr>
              <p:grpSpPr>
                <a:xfrm>
                  <a:off x="6679800" y="2923920"/>
                  <a:ext cx="362160" cy="286560"/>
                  <a:chOff x="6679800" y="2923920"/>
                  <a:chExt cx="362160" cy="28656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6679800" y="292428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V="1">
                    <a:off x="6679800" y="292392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6679800" y="3544200"/>
                  <a:ext cx="362160" cy="285840"/>
                  <a:chOff x="6679800" y="3544200"/>
                  <a:chExt cx="362160" cy="28584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667980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6679800" y="3544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6679800" y="4785120"/>
                  <a:ext cx="362160" cy="285840"/>
                  <a:chOff x="6679800" y="4785120"/>
                  <a:chExt cx="362160" cy="2858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667980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6679800" y="4785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6679800" y="4165200"/>
                  <a:ext cx="362160" cy="285840"/>
                  <a:chOff x="6679800" y="4165200"/>
                  <a:chExt cx="362160" cy="2858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667980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6679800" y="416520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6679800" y="5406120"/>
                  <a:ext cx="362160" cy="285840"/>
                  <a:chOff x="6679800" y="5406120"/>
                  <a:chExt cx="362160" cy="2858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667980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V="1">
                    <a:off x="6679800" y="5406120"/>
                    <a:ext cx="36216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6679800" y="6026400"/>
                  <a:ext cx="362160" cy="286560"/>
                  <a:chOff x="6679800" y="6026400"/>
                  <a:chExt cx="362160" cy="28656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6679800" y="602676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6679800" y="6026400"/>
                    <a:ext cx="36216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9" name=""/>
              <p:cNvGrpSpPr/>
              <p:nvPr/>
            </p:nvGrpSpPr>
            <p:grpSpPr>
              <a:xfrm>
                <a:off x="4686120" y="2923920"/>
                <a:ext cx="361800" cy="3389040"/>
                <a:chOff x="4686120" y="2923920"/>
                <a:chExt cx="361800" cy="338904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4686120" y="2923920"/>
                  <a:ext cx="361800" cy="286560"/>
                  <a:chOff x="4686120" y="2923920"/>
                  <a:chExt cx="361800" cy="28656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4686120" y="292428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4686120" y="292392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4686120" y="3544200"/>
                  <a:ext cx="361800" cy="285840"/>
                  <a:chOff x="4686120" y="3544200"/>
                  <a:chExt cx="361800" cy="28584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>
                    <a:off x="468612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4686120" y="3544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4686120" y="4785120"/>
                  <a:ext cx="361800" cy="285840"/>
                  <a:chOff x="4686120" y="4785120"/>
                  <a:chExt cx="361800" cy="2858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468612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4686120" y="4785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4686120" y="4165200"/>
                  <a:ext cx="361800" cy="285840"/>
                  <a:chOff x="4686120" y="4165200"/>
                  <a:chExt cx="361800" cy="2858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468612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4686120" y="416520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4686120" y="5406120"/>
                  <a:ext cx="361800" cy="285840"/>
                  <a:chOff x="4686120" y="5406120"/>
                  <a:chExt cx="361800" cy="28584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468612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4686120" y="5406120"/>
                    <a:ext cx="361800" cy="28584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4686120" y="6026400"/>
                  <a:ext cx="361800" cy="286560"/>
                  <a:chOff x="4686120" y="6026400"/>
                  <a:chExt cx="361800" cy="28656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4686120" y="602676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4686120" y="6026400"/>
                    <a:ext cx="361800" cy="286200"/>
                  </a:xfrm>
                  <a:prstGeom prst="line">
                    <a:avLst/>
                  </a:prstGeom>
                  <a:ln w="255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48" name=""/>
            <p:cNvSpPr/>
            <p:nvPr/>
          </p:nvSpPr>
          <p:spPr>
            <a:xfrm>
              <a:off x="1908000" y="3573360"/>
              <a:ext cx="2767320" cy="248616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16360" y="4653000"/>
              <a:ext cx="1139760" cy="137880"/>
            </a:xfrm>
            <a:prstGeom prst="rightArrow">
              <a:avLst>
                <a:gd name="adj1" fmla="val 50000"/>
                <a:gd name="adj2" fmla="val 206658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16360" y="3645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59280" y="4581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69080" y="4437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Speed 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ome time t later, A has chang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A =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vt x 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B x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B x v x L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But V=B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So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V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500720" y="2204640"/>
            <a:ext cx="4317840" cy="3389400"/>
            <a:chOff x="4500720" y="2204640"/>
            <a:chExt cx="4317840" cy="3389400"/>
          </a:xfrm>
        </p:grpSpPr>
        <p:grpSp>
          <p:nvGrpSpPr>
            <p:cNvPr id="956" name=""/>
            <p:cNvGrpSpPr/>
            <p:nvPr/>
          </p:nvGrpSpPr>
          <p:grpSpPr>
            <a:xfrm>
              <a:off x="4500720" y="2204640"/>
              <a:ext cx="4196520" cy="3389400"/>
              <a:chOff x="4500720" y="2204640"/>
              <a:chExt cx="4196520" cy="338940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6341760" y="2204640"/>
                <a:ext cx="2355480" cy="3389400"/>
                <a:chOff x="6341760" y="2204640"/>
                <a:chExt cx="2355480" cy="338940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7005960" y="2204640"/>
                  <a:ext cx="362160" cy="3389400"/>
                  <a:chOff x="7005960" y="2204640"/>
                  <a:chExt cx="362160" cy="3389400"/>
                </a:xfrm>
              </p:grpSpPr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7005960" y="2204640"/>
                    <a:ext cx="362160" cy="286560"/>
                    <a:chOff x="7005960" y="2204640"/>
                    <a:chExt cx="362160" cy="28656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7005960" y="220500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V="1">
                      <a:off x="7005960" y="2204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7005960" y="2824920"/>
                    <a:ext cx="362160" cy="285840"/>
                    <a:chOff x="7005960" y="2824920"/>
                    <a:chExt cx="362160" cy="2858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700596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V="1">
                      <a:off x="700596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7005960" y="4065840"/>
                    <a:ext cx="362160" cy="285840"/>
                    <a:chOff x="7005960" y="4065840"/>
                    <a:chExt cx="362160" cy="28584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700596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V="1">
                      <a:off x="700596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7005960" y="3445920"/>
                    <a:ext cx="362160" cy="285840"/>
                    <a:chOff x="7005960" y="3445920"/>
                    <a:chExt cx="362160" cy="2858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700596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V="1">
                      <a:off x="700596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7005960" y="4687200"/>
                    <a:ext cx="362160" cy="285840"/>
                    <a:chOff x="7005960" y="4687200"/>
                    <a:chExt cx="362160" cy="28584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00596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V="1">
                      <a:off x="700596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7005960" y="5307480"/>
                    <a:ext cx="362160" cy="286560"/>
                    <a:chOff x="7005960" y="5307480"/>
                    <a:chExt cx="362160" cy="28656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7005960" y="53078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V="1">
                      <a:off x="7005960" y="5307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670520" y="2204640"/>
                  <a:ext cx="361800" cy="3389400"/>
                  <a:chOff x="7670520" y="2204640"/>
                  <a:chExt cx="361800" cy="33894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7670520" y="2204640"/>
                    <a:ext cx="361800" cy="286560"/>
                    <a:chOff x="7670520" y="2204640"/>
                    <a:chExt cx="361800" cy="28656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7670520" y="220500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V="1">
                      <a:off x="7670520" y="2204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7670520" y="2824920"/>
                    <a:ext cx="361800" cy="285840"/>
                    <a:chOff x="7670520" y="2824920"/>
                    <a:chExt cx="361800" cy="2858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767052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V="1">
                      <a:off x="767052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7670520" y="4065840"/>
                    <a:ext cx="361800" cy="285840"/>
                    <a:chOff x="7670520" y="4065840"/>
                    <a:chExt cx="361800" cy="2858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767052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767052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7670520" y="3445920"/>
                    <a:ext cx="361800" cy="285840"/>
                    <a:chOff x="7670520" y="3445920"/>
                    <a:chExt cx="361800" cy="2858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67052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767052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7670520" y="4687200"/>
                    <a:ext cx="361800" cy="285840"/>
                    <a:chOff x="7670520" y="4687200"/>
                    <a:chExt cx="361800" cy="2858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67052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767052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7670520" y="5307480"/>
                    <a:ext cx="361800" cy="286560"/>
                    <a:chOff x="7670520" y="5307480"/>
                    <a:chExt cx="361800" cy="2865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670520" y="53078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V="1">
                      <a:off x="7670520" y="5307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8335080" y="2204640"/>
                  <a:ext cx="362160" cy="3389400"/>
                  <a:chOff x="8335080" y="2204640"/>
                  <a:chExt cx="362160" cy="3389400"/>
                </a:xfrm>
              </p:grpSpPr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8335080" y="2204640"/>
                    <a:ext cx="362160" cy="286560"/>
                    <a:chOff x="8335080" y="2204640"/>
                    <a:chExt cx="362160" cy="28656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8335080" y="220500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V="1">
                      <a:off x="8335080" y="2204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8335080" y="2824920"/>
                    <a:ext cx="362160" cy="285840"/>
                    <a:chOff x="8335080" y="2824920"/>
                    <a:chExt cx="362160" cy="28584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833508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V="1">
                      <a:off x="8335080" y="2824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8335080" y="4065840"/>
                    <a:ext cx="362160" cy="285840"/>
                    <a:chOff x="8335080" y="4065840"/>
                    <a:chExt cx="362160" cy="2858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833508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V="1">
                      <a:off x="8335080" y="4065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8335080" y="3445920"/>
                    <a:ext cx="362160" cy="285840"/>
                    <a:chOff x="8335080" y="3445920"/>
                    <a:chExt cx="362160" cy="2858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833508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V="1">
                      <a:off x="8335080" y="344592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8335080" y="4687200"/>
                    <a:ext cx="362160" cy="285840"/>
                    <a:chOff x="8335080" y="4687200"/>
                    <a:chExt cx="362160" cy="28584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833508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V="1">
                      <a:off x="8335080" y="468720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8335080" y="5307480"/>
                    <a:ext cx="362160" cy="286560"/>
                    <a:chOff x="8335080" y="5307480"/>
                    <a:chExt cx="362160" cy="28656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8335080" y="53078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V="1">
                      <a:off x="8335080" y="5307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6341760" y="2204640"/>
                  <a:ext cx="361800" cy="3389400"/>
                  <a:chOff x="6341760" y="2204640"/>
                  <a:chExt cx="361800" cy="3389400"/>
                </a:xfrm>
              </p:grpSpPr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6341760" y="2204640"/>
                    <a:ext cx="361800" cy="286560"/>
                    <a:chOff x="6341760" y="2204640"/>
                    <a:chExt cx="361800" cy="28656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6341760" y="220500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6341760" y="2204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6341760" y="2824920"/>
                    <a:ext cx="361800" cy="285840"/>
                    <a:chOff x="6341760" y="2824920"/>
                    <a:chExt cx="361800" cy="28584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634176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6341760" y="2824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6341760" y="4065840"/>
                    <a:ext cx="361800" cy="285840"/>
                    <a:chOff x="6341760" y="4065840"/>
                    <a:chExt cx="361800" cy="28584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634176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V="1">
                      <a:off x="6341760" y="4065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6341760" y="3445920"/>
                    <a:ext cx="361800" cy="285840"/>
                    <a:chOff x="6341760" y="3445920"/>
                    <a:chExt cx="361800" cy="28584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634176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V="1">
                      <a:off x="6341760" y="344592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6341760" y="4687200"/>
                    <a:ext cx="361800" cy="285840"/>
                    <a:chOff x="6341760" y="4687200"/>
                    <a:chExt cx="361800" cy="28584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634176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V="1">
                      <a:off x="6341760" y="468720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6341760" y="5307480"/>
                    <a:ext cx="361800" cy="286560"/>
                    <a:chOff x="6341760" y="5307480"/>
                    <a:chExt cx="361800" cy="28656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6341760" y="53078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V="1">
                      <a:off x="6341760" y="5307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34" name=""/>
              <p:cNvSpPr/>
              <p:nvPr/>
            </p:nvSpPr>
            <p:spPr>
              <a:xfrm>
                <a:off x="4500720" y="2854440"/>
                <a:ext cx="2766600" cy="2485800"/>
              </a:xfrm>
              <a:prstGeom prst="roundRect">
                <a:avLst>
                  <a:gd name="adj" fmla="val 16667"/>
                </a:avLst>
              </a:prstGeom>
              <a:noFill/>
              <a:ln w="54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8720" y="3935520"/>
                <a:ext cx="1139400" cy="137880"/>
              </a:xfrm>
              <a:prstGeom prst="rightArrow">
                <a:avLst>
                  <a:gd name="adj1" fmla="val 50000"/>
                  <a:gd name="adj2" fmla="val 206593"/>
                </a:avLst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148000" y="2927520"/>
                <a:ext cx="0" cy="23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14920" y="3862440"/>
                <a:ext cx="72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00720" y="2854440"/>
                <a:ext cx="0" cy="244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659280" y="3790800"/>
                <a:ext cx="43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8459640" y="37162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Faraday’s Law (again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nother way to look at Faraday’s Law is that the induced voltage in a circuit is determined by the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rate of change of fl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3059280" y="2997360"/>
                <a:ext cx="403848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4" name=""/>
          <p:cNvSpPr/>
          <p:nvPr/>
        </p:nvSpPr>
        <p:spPr>
          <a:xfrm>
            <a:off x="250920" y="4724280"/>
            <a:ext cx="3170160" cy="1873440"/>
          </a:xfrm>
          <a:prstGeom prst="wedgeEllipseCallout">
            <a:avLst>
              <a:gd name="adj1" fmla="val 103930"/>
              <a:gd name="adj2" fmla="val -63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negative sign is a reminder of Lenz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ather than sliding a loop through a field, it is easier to sp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how a generator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8532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coil is horizontal, the induced current is maximum, as the coil is cutting across the field lines at right angles as it mo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2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the coil is vertical, the induced current is zero, as the coil is moving parallel to the magnetic field l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3780000" y="1674720"/>
            <a:ext cx="4778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we start timing from when the coil is vertical, then at t=0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= B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222200" y="3110040"/>
            <a:ext cx="6615000" cy="2573280"/>
            <a:chOff x="1222200" y="3110040"/>
            <a:chExt cx="6615000" cy="2573280"/>
          </a:xfrm>
        </p:grpSpPr>
        <p:grpSp>
          <p:nvGrpSpPr>
            <p:cNvPr id="1057" name=""/>
            <p:cNvGrpSpPr/>
            <p:nvPr/>
          </p:nvGrpSpPr>
          <p:grpSpPr>
            <a:xfrm>
              <a:off x="1222200" y="3204000"/>
              <a:ext cx="6615000" cy="2479320"/>
              <a:chOff x="1222200" y="3204000"/>
              <a:chExt cx="6615000" cy="24793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1222200" y="3204000"/>
                <a:ext cx="6615000" cy="2479320"/>
                <a:chOff x="1222200" y="3204000"/>
                <a:chExt cx="6615000" cy="24793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1222200" y="3204000"/>
                  <a:ext cx="6615000" cy="2479320"/>
                  <a:chOff x="1222200" y="3204000"/>
                  <a:chExt cx="6615000" cy="24793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1222200" y="3204000"/>
                    <a:ext cx="1239480" cy="247932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597720" y="3204000"/>
                    <a:ext cx="1239480" cy="247932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1359000" y="3893760"/>
                  <a:ext cx="6341760" cy="459720"/>
                  <a:chOff x="1359000" y="3893760"/>
                  <a:chExt cx="6341760" cy="45972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1359000" y="3893760"/>
                    <a:ext cx="965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873840" y="3893760"/>
                    <a:ext cx="826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2462400" y="3340440"/>
                <a:ext cx="4135320" cy="2069280"/>
                <a:chOff x="2462400" y="3340440"/>
                <a:chExt cx="4135320" cy="206928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2462400" y="334044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462400" y="403020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462400" y="471996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462400" y="5409720"/>
                  <a:ext cx="4135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3927960" y="3110040"/>
              <a:ext cx="743400" cy="2527920"/>
              <a:chOff x="3927960" y="3110040"/>
              <a:chExt cx="743400" cy="252792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3927960" y="3110040"/>
                <a:ext cx="743400" cy="2527920"/>
                <a:chOff x="3927960" y="3110040"/>
                <a:chExt cx="743400" cy="25279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3927960" y="4893840"/>
                  <a:ext cx="743400" cy="7441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927960" y="3110040"/>
                  <a:ext cx="743400" cy="7441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4075920" y="3258000"/>
                <a:ext cx="445320" cy="445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4075560" y="3258000"/>
                <a:ext cx="445320" cy="59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64120" y="5130720"/>
                <a:ext cx="295200" cy="29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278960" y="3844800"/>
                <a:ext cx="0" cy="1019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576400" y="3261240"/>
              <a:ext cx="8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02880" y="3442680"/>
              <a:ext cx="0" cy="18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01400" y="3941280"/>
              <a:ext cx="13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romagnetis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elds are formed around current carrying wi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398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f the coil rotates with speed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, then after time t the coil will have turned through angl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he flux will now b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= Bcos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t x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492200" y="3919680"/>
            <a:ext cx="6465600" cy="2445840"/>
            <a:chOff x="1492200" y="3919680"/>
            <a:chExt cx="6465600" cy="2445840"/>
          </a:xfrm>
        </p:grpSpPr>
        <p:grpSp>
          <p:nvGrpSpPr>
            <p:cNvPr id="1084" name=""/>
            <p:cNvGrpSpPr/>
            <p:nvPr/>
          </p:nvGrpSpPr>
          <p:grpSpPr>
            <a:xfrm>
              <a:off x="1492200" y="3943440"/>
              <a:ext cx="6465600" cy="2422080"/>
              <a:chOff x="1492200" y="3943440"/>
              <a:chExt cx="6465600" cy="242208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1492200" y="3943440"/>
                <a:ext cx="6465600" cy="2422080"/>
                <a:chOff x="1492200" y="3943440"/>
                <a:chExt cx="6465600" cy="2422080"/>
              </a:xfrm>
            </p:grpSpPr>
            <p:grpSp>
              <p:nvGrpSpPr>
                <p:cNvPr id="1086" name=""/>
                <p:cNvGrpSpPr/>
                <p:nvPr/>
              </p:nvGrpSpPr>
              <p:grpSpPr>
                <a:xfrm>
                  <a:off x="1492200" y="3943440"/>
                  <a:ext cx="6465600" cy="2422080"/>
                  <a:chOff x="1492200" y="3943440"/>
                  <a:chExt cx="6465600" cy="242208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>
                    <a:off x="1492200" y="3943440"/>
                    <a:ext cx="1211400" cy="24220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46400" y="3943440"/>
                    <a:ext cx="1211400" cy="24220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1626120" y="4617360"/>
                  <a:ext cx="6198480" cy="459720"/>
                  <a:chOff x="1626120" y="4617360"/>
                  <a:chExt cx="6198480" cy="4597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1626120" y="4617360"/>
                    <a:ext cx="944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016400" y="4617360"/>
                    <a:ext cx="808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400" spc="-1" strike="noStrike">
                        <a:solidFill>
                          <a:srgbClr val="ffffff"/>
                        </a:solidFill>
                        <a:latin typeface="Arial"/>
                      </a:rPr>
                      <a:t>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2" name=""/>
              <p:cNvGrpSpPr/>
              <p:nvPr/>
            </p:nvGrpSpPr>
            <p:grpSpPr>
              <a:xfrm>
                <a:off x="2704680" y="4076640"/>
                <a:ext cx="4041720" cy="2021760"/>
                <a:chOff x="2704680" y="4076640"/>
                <a:chExt cx="4041720" cy="20217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2704680" y="407664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704680" y="475056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704680" y="542448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704680" y="6098400"/>
                  <a:ext cx="4041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"/>
            <p:cNvGrpSpPr/>
            <p:nvPr/>
          </p:nvGrpSpPr>
          <p:grpSpPr>
            <a:xfrm>
              <a:off x="3571920" y="3919680"/>
              <a:ext cx="2165760" cy="2307960"/>
              <a:chOff x="3571920" y="3919680"/>
              <a:chExt cx="2165760" cy="230796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3571920" y="3919680"/>
                <a:ext cx="2165760" cy="2307960"/>
                <a:chOff x="3571920" y="3919680"/>
                <a:chExt cx="2165760" cy="2307960"/>
              </a:xfrm>
            </p:grpSpPr>
            <p:sp>
              <p:nvSpPr>
                <p:cNvPr id="1099" name=""/>
                <p:cNvSpPr/>
                <p:nvPr/>
              </p:nvSpPr>
              <p:spPr>
                <a:xfrm rot="2500200">
                  <a:off x="3720240" y="5358240"/>
                  <a:ext cx="720360" cy="7207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2500200">
                  <a:off x="4868640" y="4067640"/>
                  <a:ext cx="720360" cy="7207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5211360" y="4122000"/>
                <a:ext cx="35280" cy="60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4827240" y="4408920"/>
                <a:ext cx="706320" cy="14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500200">
                <a:off x="3938760" y="5592600"/>
                <a:ext cx="285840" cy="28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4323960" y="4677120"/>
                <a:ext cx="656640" cy="7376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4946040" y="5381280"/>
              <a:ext cx="12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23160" y="4036680"/>
              <a:ext cx="8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505400" y="4767840"/>
              <a:ext cx="1228680" cy="146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4072320" y="3930480"/>
              <a:ext cx="19080" cy="1803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 rot="16200000">
              <a:off x="4199760" y="4633200"/>
              <a:ext cx="341280" cy="572040"/>
            </a:xfrm>
            <a:custGeom>
              <a:avLst/>
              <a:gdLst/>
              <a:ahLst/>
              <a:rect l="l" t="t" r="r" b="b"/>
              <a:pathLst>
                <a:path w="142" h="238">
                  <a:moveTo>
                    <a:pt x="0" y="0"/>
                  </a:moveTo>
                  <a:cubicBezTo>
                    <a:pt x="48" y="35"/>
                    <a:pt x="96" y="70"/>
                    <a:pt x="119" y="110"/>
                  </a:cubicBezTo>
                  <a:cubicBezTo>
                    <a:pt x="142" y="150"/>
                    <a:pt x="134" y="217"/>
                    <a:pt x="137" y="23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97600" y="4152240"/>
              <a:ext cx="11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araday’s Law say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or a coil of N tu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4572000" y="1628640"/>
                <a:ext cx="40323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φ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4500720" y="5373720"/>
                <a:ext cx="3286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N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formula for alternating generator voltage is often written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re V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=BAN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is produces a voltage-time graph that looks like a sine cu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B. Similarities to SHM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843280" y="2708280"/>
                <a:ext cx="403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generate A.C,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lip ring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re us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3534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Generat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generate D.C,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plit ring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r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353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eno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ields are formed in solenoids or coi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427640" y="476640"/>
            <a:ext cx="3682440" cy="5624280"/>
            <a:chOff x="4427640" y="476640"/>
            <a:chExt cx="3682440" cy="5624280"/>
          </a:xfrm>
        </p:grpSpPr>
        <p:grpSp>
          <p:nvGrpSpPr>
            <p:cNvPr id="529" name=""/>
            <p:cNvGrpSpPr/>
            <p:nvPr/>
          </p:nvGrpSpPr>
          <p:grpSpPr>
            <a:xfrm>
              <a:off x="4427640" y="950400"/>
              <a:ext cx="1545480" cy="4596480"/>
              <a:chOff x="4427640" y="950400"/>
              <a:chExt cx="1545480" cy="45964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4427640" y="969840"/>
                <a:ext cx="738720" cy="4555440"/>
                <a:chOff x="4427640" y="969840"/>
                <a:chExt cx="738720" cy="45554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4427640" y="4034880"/>
                  <a:ext cx="738720" cy="732240"/>
                  <a:chOff x="4427640" y="4034880"/>
                  <a:chExt cx="738720" cy="732240"/>
                </a:xfrm>
              </p:grpSpPr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4427640" y="4034880"/>
                    <a:ext cx="738720" cy="732240"/>
                    <a:chOff x="4427640" y="4034880"/>
                    <a:chExt cx="738720" cy="732240"/>
                  </a:xfrm>
                </p:grpSpPr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4427640" y="4034880"/>
                      <a:ext cx="738720" cy="732240"/>
                      <a:chOff x="4427640" y="4034880"/>
                      <a:chExt cx="738720" cy="73224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 rot="16200000">
                        <a:off x="4434120" y="403488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 flipV="1">
                        <a:off x="5157000" y="4374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4427640" y="441648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539600" y="4146120"/>
                      <a:ext cx="521280" cy="511920"/>
                      <a:chOff x="4539600" y="4146120"/>
                      <a:chExt cx="521280" cy="51192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 rot="16200000">
                        <a:off x="4541760" y="414612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 flipV="1">
                        <a:off x="5060880" y="43614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4539600" y="44139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"/>
                    <p:cNvSpPr/>
                    <p:nvPr/>
                  </p:nvSpPr>
                  <p:spPr>
                    <a:xfrm rot="16200000">
                      <a:off x="4663800" y="425520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2" name=""/>
                  <p:cNvSpPr/>
                  <p:nvPr/>
                </p:nvSpPr>
                <p:spPr>
                  <a:xfrm rot="16200000">
                    <a:off x="4752720" y="435564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4427640" y="4793040"/>
                  <a:ext cx="738720" cy="732240"/>
                  <a:chOff x="4427640" y="4793040"/>
                  <a:chExt cx="738720" cy="73224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4427640" y="4793040"/>
                    <a:ext cx="738720" cy="732240"/>
                    <a:chOff x="4427640" y="4793040"/>
                    <a:chExt cx="738720" cy="73224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4427640" y="4793040"/>
                      <a:ext cx="738720" cy="732240"/>
                      <a:chOff x="4427640" y="4793040"/>
                      <a:chExt cx="738720" cy="73224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 rot="16200000">
                        <a:off x="4434120" y="479304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5157000" y="51325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4427640" y="51746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4539600" y="4904280"/>
                      <a:ext cx="521280" cy="511920"/>
                      <a:chOff x="4539600" y="4904280"/>
                      <a:chExt cx="521280" cy="511920"/>
                    </a:xfrm>
                  </p:grpSpPr>
                  <p:sp>
                    <p:nvSpPr>
                      <p:cNvPr id="550" name=""/>
                      <p:cNvSpPr/>
                      <p:nvPr/>
                    </p:nvSpPr>
                    <p:spPr>
                      <a:xfrm rot="16200000">
                        <a:off x="4541760" y="49042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5060880" y="51195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4539600" y="51721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3" name=""/>
                    <p:cNvSpPr/>
                    <p:nvPr/>
                  </p:nvSpPr>
                  <p:spPr>
                    <a:xfrm rot="16200000">
                      <a:off x="4663800" y="501336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 rot="16200000">
                    <a:off x="4752720" y="511380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4427640" y="3272760"/>
                  <a:ext cx="738720" cy="732240"/>
                  <a:chOff x="4427640" y="3272760"/>
                  <a:chExt cx="738720" cy="73224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4427640" y="3272760"/>
                    <a:ext cx="738720" cy="732240"/>
                    <a:chOff x="4427640" y="3272760"/>
                    <a:chExt cx="738720" cy="732240"/>
                  </a:xfrm>
                </p:grpSpPr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4427640" y="3272760"/>
                      <a:ext cx="738720" cy="732240"/>
                      <a:chOff x="4427640" y="3272760"/>
                      <a:chExt cx="738720" cy="73224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 rot="16200000">
                        <a:off x="4434120" y="327276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 flipV="1">
                        <a:off x="5157000" y="36122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4427640" y="3654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4539600" y="3384000"/>
                      <a:ext cx="521280" cy="511920"/>
                      <a:chOff x="4539600" y="3384000"/>
                      <a:chExt cx="521280" cy="511920"/>
                    </a:xfrm>
                  </p:grpSpPr>
                  <p:sp>
                    <p:nvSpPr>
                      <p:cNvPr id="562" name=""/>
                      <p:cNvSpPr/>
                      <p:nvPr/>
                    </p:nvSpPr>
                    <p:spPr>
                      <a:xfrm rot="16200000">
                        <a:off x="4541760" y="338400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 flipV="1">
                        <a:off x="5060880" y="359928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"/>
                      <p:cNvSpPr/>
                      <p:nvPr/>
                    </p:nvSpPr>
                    <p:spPr>
                      <a:xfrm>
                        <a:off x="4539600" y="36518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5" name=""/>
                    <p:cNvSpPr/>
                    <p:nvPr/>
                  </p:nvSpPr>
                  <p:spPr>
                    <a:xfrm rot="16200000">
                      <a:off x="4663800" y="349308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4752720" y="359352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4427640" y="2518560"/>
                  <a:ext cx="738720" cy="732600"/>
                  <a:chOff x="4427640" y="2518560"/>
                  <a:chExt cx="738720" cy="73260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27640" y="2518560"/>
                    <a:ext cx="738720" cy="732600"/>
                    <a:chOff x="4427640" y="2518560"/>
                    <a:chExt cx="738720" cy="73260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4427640" y="2518560"/>
                      <a:ext cx="738720" cy="732600"/>
                      <a:chOff x="4427640" y="2518560"/>
                      <a:chExt cx="738720" cy="732600"/>
                    </a:xfrm>
                  </p:grpSpPr>
                  <p:sp>
                    <p:nvSpPr>
                      <p:cNvPr id="570" name=""/>
                      <p:cNvSpPr/>
                      <p:nvPr/>
                    </p:nvSpPr>
                    <p:spPr>
                      <a:xfrm rot="16200000">
                        <a:off x="4433760" y="2518560"/>
                        <a:ext cx="73260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 flipV="1">
                        <a:off x="5157000" y="28584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4427640" y="29005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4539600" y="2630160"/>
                      <a:ext cx="521280" cy="511920"/>
                      <a:chOff x="4539600" y="2630160"/>
                      <a:chExt cx="521280" cy="51192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 rot="16200000">
                        <a:off x="4541760" y="263016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flipV="1">
                        <a:off x="5060880" y="28454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4539600" y="289800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7" name=""/>
                    <p:cNvSpPr/>
                    <p:nvPr/>
                  </p:nvSpPr>
                  <p:spPr>
                    <a:xfrm rot="16200000">
                      <a:off x="4663800" y="273888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4752360" y="2838960"/>
                    <a:ext cx="8244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4427640" y="1739880"/>
                  <a:ext cx="738720" cy="732600"/>
                  <a:chOff x="4427640" y="1739880"/>
                  <a:chExt cx="738720" cy="73260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4427640" y="1739880"/>
                    <a:ext cx="738720" cy="732600"/>
                    <a:chOff x="4427640" y="1739880"/>
                    <a:chExt cx="738720" cy="73260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4427640" y="1739880"/>
                      <a:ext cx="738720" cy="732600"/>
                      <a:chOff x="4427640" y="1739880"/>
                      <a:chExt cx="738720" cy="732600"/>
                    </a:xfrm>
                  </p:grpSpPr>
                  <p:sp>
                    <p:nvSpPr>
                      <p:cNvPr id="582" name=""/>
                      <p:cNvSpPr/>
                      <p:nvPr/>
                    </p:nvSpPr>
                    <p:spPr>
                      <a:xfrm rot="16200000">
                        <a:off x="4433760" y="1739880"/>
                        <a:ext cx="73260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"/>
                      <p:cNvSpPr/>
                      <p:nvPr/>
                    </p:nvSpPr>
                    <p:spPr>
                      <a:xfrm flipV="1">
                        <a:off x="5157000" y="20797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4427640" y="21218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4539600" y="1851480"/>
                      <a:ext cx="521280" cy="511920"/>
                      <a:chOff x="4539600" y="1851480"/>
                      <a:chExt cx="521280" cy="51192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 rot="16200000">
                        <a:off x="4541760" y="18514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V="1">
                        <a:off x="5060880" y="20667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539600" y="21193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9" name=""/>
                    <p:cNvSpPr/>
                    <p:nvPr/>
                  </p:nvSpPr>
                  <p:spPr>
                    <a:xfrm rot="16200000">
                      <a:off x="4663800" y="196020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"/>
                  <p:cNvSpPr/>
                  <p:nvPr/>
                </p:nvSpPr>
                <p:spPr>
                  <a:xfrm rot="16200000">
                    <a:off x="4752360" y="2060280"/>
                    <a:ext cx="8244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4427640" y="969840"/>
                  <a:ext cx="738720" cy="732240"/>
                  <a:chOff x="4427640" y="969840"/>
                  <a:chExt cx="738720" cy="732240"/>
                </a:xfrm>
              </p:grpSpPr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427640" y="969840"/>
                    <a:ext cx="738720" cy="732240"/>
                    <a:chOff x="4427640" y="969840"/>
                    <a:chExt cx="738720" cy="73224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4427640" y="969840"/>
                      <a:ext cx="738720" cy="732240"/>
                      <a:chOff x="4427640" y="969840"/>
                      <a:chExt cx="738720" cy="732240"/>
                    </a:xfrm>
                  </p:grpSpPr>
                  <p:sp>
                    <p:nvSpPr>
                      <p:cNvPr id="594" name=""/>
                      <p:cNvSpPr/>
                      <p:nvPr/>
                    </p:nvSpPr>
                    <p:spPr>
                      <a:xfrm rot="16200000">
                        <a:off x="4434120" y="969840"/>
                        <a:ext cx="732240" cy="732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 flipV="1">
                        <a:off x="5157000" y="13093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4427640" y="135144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4539600" y="1081080"/>
                      <a:ext cx="521280" cy="511920"/>
                      <a:chOff x="4539600" y="1081080"/>
                      <a:chExt cx="521280" cy="511920"/>
                    </a:xfrm>
                  </p:grpSpPr>
                  <p:sp>
                    <p:nvSpPr>
                      <p:cNvPr id="598" name=""/>
                      <p:cNvSpPr/>
                      <p:nvPr/>
                    </p:nvSpPr>
                    <p:spPr>
                      <a:xfrm rot="16200000">
                        <a:off x="4541760" y="1081080"/>
                        <a:ext cx="511920" cy="511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5060880" y="129636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4539600" y="1348920"/>
                        <a:ext cx="0" cy="26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1" name=""/>
                    <p:cNvSpPr/>
                    <p:nvPr/>
                  </p:nvSpPr>
                  <p:spPr>
                    <a:xfrm rot="16200000">
                      <a:off x="4663800" y="1190160"/>
                      <a:ext cx="264600" cy="26496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 rot="16200000">
                    <a:off x="4752720" y="1290600"/>
                    <a:ext cx="82080" cy="8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3" name=""/>
              <p:cNvGrpSpPr/>
              <p:nvPr/>
            </p:nvGrpSpPr>
            <p:grpSpPr>
              <a:xfrm>
                <a:off x="5234040" y="950400"/>
                <a:ext cx="739080" cy="4596480"/>
                <a:chOff x="5234040" y="950400"/>
                <a:chExt cx="739080" cy="459648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234040" y="4814640"/>
                  <a:ext cx="739080" cy="732240"/>
                  <a:chOff x="5234040" y="4814640"/>
                  <a:chExt cx="739080" cy="732240"/>
                </a:xfrm>
              </p:grpSpPr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234040" y="4814640"/>
                    <a:ext cx="739080" cy="732240"/>
                    <a:chOff x="5234040" y="4814640"/>
                    <a:chExt cx="739080" cy="73224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16200000">
                      <a:off x="5240160" y="481428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5963760" y="51807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V="1">
                      <a:off x="5234040" y="51386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16200000">
                      <a:off x="5348520" y="492336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5868000" y="51940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V="1">
                      <a:off x="5346000" y="51415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470560" y="5044680"/>
                    <a:ext cx="264600" cy="264600"/>
                    <a:chOff x="5470560" y="5044680"/>
                    <a:chExt cx="264600" cy="26460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16200000">
                      <a:off x="5470560" y="504468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flipV="1">
                      <a:off x="5531040" y="512604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5541840" y="51346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5234040" y="3269880"/>
                  <a:ext cx="739080" cy="732240"/>
                  <a:chOff x="5234040" y="3269880"/>
                  <a:chExt cx="739080" cy="73224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234040" y="3269880"/>
                    <a:ext cx="739080" cy="732240"/>
                    <a:chOff x="5234040" y="3269880"/>
                    <a:chExt cx="739080" cy="73224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6200000">
                      <a:off x="5240160" y="326952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5963760" y="36360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V="1">
                      <a:off x="5234040" y="35938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H="1" rot="16200000">
                      <a:off x="5348520" y="337860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868000" y="36493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5346000" y="35967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470560" y="3499920"/>
                    <a:ext cx="264600" cy="264600"/>
                    <a:chOff x="5470560" y="3499920"/>
                    <a:chExt cx="264600" cy="26460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16200000">
                      <a:off x="5470560" y="349992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V="1">
                      <a:off x="5531040" y="35812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5541840" y="358992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234040" y="4043160"/>
                  <a:ext cx="739080" cy="732240"/>
                  <a:chOff x="5234040" y="4043160"/>
                  <a:chExt cx="739080" cy="73224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234040" y="4043160"/>
                    <a:ext cx="739080" cy="732240"/>
                    <a:chOff x="5234040" y="4043160"/>
                    <a:chExt cx="739080" cy="7322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6200000">
                      <a:off x="5240160" y="404280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5963760" y="44092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V="1">
                      <a:off x="5234040" y="43671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16200000">
                      <a:off x="5348520" y="415188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5868000" y="44226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V="1">
                      <a:off x="5346000" y="43700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5470560" y="4273200"/>
                    <a:ext cx="264600" cy="264600"/>
                    <a:chOff x="5470560" y="4273200"/>
                    <a:chExt cx="264600" cy="2646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rot="16200000">
                      <a:off x="5470560" y="427320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V="1">
                      <a:off x="5531040" y="435456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5541840" y="43632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234040" y="2496960"/>
                  <a:ext cx="739080" cy="732240"/>
                  <a:chOff x="5234040" y="2496960"/>
                  <a:chExt cx="739080" cy="73224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234040" y="2496960"/>
                    <a:ext cx="739080" cy="732240"/>
                    <a:chOff x="5234040" y="2496960"/>
                    <a:chExt cx="739080" cy="7322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16200000">
                      <a:off x="5240160" y="249660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5963760" y="28630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V="1">
                      <a:off x="5234040" y="28209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 rot="16200000">
                      <a:off x="5348520" y="260568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5868000" y="28764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V="1">
                      <a:off x="5346000" y="28238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470560" y="2727000"/>
                    <a:ext cx="264600" cy="264600"/>
                    <a:chOff x="5470560" y="2727000"/>
                    <a:chExt cx="264600" cy="2646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200000">
                      <a:off x="5470560" y="272700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V="1">
                      <a:off x="5531040" y="280836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541840" y="28170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5234040" y="1723680"/>
                  <a:ext cx="739080" cy="732240"/>
                  <a:chOff x="5234040" y="1723680"/>
                  <a:chExt cx="739080" cy="73224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234040" y="1723680"/>
                    <a:ext cx="739080" cy="732240"/>
                    <a:chOff x="5234040" y="1723680"/>
                    <a:chExt cx="739080" cy="7322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16200000">
                      <a:off x="5240160" y="172332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5963760" y="20898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V="1">
                      <a:off x="5234040" y="20476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200000">
                      <a:off x="5348520" y="183240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5868000" y="21031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5346000" y="205056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470560" y="1953720"/>
                    <a:ext cx="264600" cy="264600"/>
                    <a:chOff x="5470560" y="1953720"/>
                    <a:chExt cx="264600" cy="2646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16200000">
                      <a:off x="5470560" y="195372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V="1">
                      <a:off x="5531040" y="203508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541840" y="204372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5234040" y="950400"/>
                  <a:ext cx="739080" cy="732240"/>
                  <a:chOff x="5234040" y="950400"/>
                  <a:chExt cx="739080" cy="732240"/>
                </a:xfrm>
              </p:grpSpPr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234040" y="950400"/>
                    <a:ext cx="739080" cy="732240"/>
                    <a:chOff x="5234040" y="950400"/>
                    <a:chExt cx="739080" cy="7322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16200000">
                      <a:off x="5240160" y="950040"/>
                      <a:ext cx="732240" cy="7326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5963760" y="131652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V="1">
                      <a:off x="5234040" y="127440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6200000">
                      <a:off x="5348520" y="1059120"/>
                      <a:ext cx="511920" cy="51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5868000" y="132984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V="1">
                      <a:off x="5346000" y="1277280"/>
                      <a:ext cx="0" cy="26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470560" y="1180440"/>
                    <a:ext cx="264600" cy="264600"/>
                    <a:chOff x="5470560" y="1180440"/>
                    <a:chExt cx="264600" cy="26460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16200000">
                      <a:off x="5470560" y="1180440"/>
                      <a:ext cx="264600" cy="26460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5531040" y="126180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541840" y="1270440"/>
                      <a:ext cx="137520" cy="101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6" name=""/>
            <p:cNvGrpSpPr/>
            <p:nvPr/>
          </p:nvGrpSpPr>
          <p:grpSpPr>
            <a:xfrm>
              <a:off x="6508800" y="476640"/>
              <a:ext cx="1601280" cy="5624280"/>
              <a:chOff x="6508800" y="476640"/>
              <a:chExt cx="1601280" cy="5624280"/>
            </a:xfrm>
          </p:grpSpPr>
          <p:sp>
            <p:nvSpPr>
              <p:cNvPr id="677" name=""/>
              <p:cNvSpPr/>
              <p:nvPr/>
            </p:nvSpPr>
            <p:spPr>
              <a:xfrm>
                <a:off x="8100360" y="52405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7370640" y="51987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04600" y="52542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7482960" y="52009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6200000">
                <a:off x="7607160" y="510372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668000" y="518508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679160" y="519336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00360" y="36954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370640" y="36532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04600" y="37087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482960" y="36561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7607160" y="355896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7668000" y="363996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79160" y="3648240"/>
                <a:ext cx="13752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100360" y="44686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370640" y="44269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04600" y="44823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7607160" y="433188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668000" y="441324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79160" y="442152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100360" y="29224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370640" y="28803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04600" y="29358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482960" y="288324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7606800" y="2785320"/>
                <a:ext cx="26496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668000" y="286668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79160" y="287496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100360" y="21492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370640" y="21070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04600" y="216288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82960" y="210960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7607160" y="201240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7668000" y="2093760"/>
                <a:ext cx="13788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79160" y="2102040"/>
                <a:ext cx="13752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100360" y="13759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370640" y="133380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04600" y="138924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482960" y="133668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7607160" y="1239480"/>
                <a:ext cx="264600" cy="2646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68000" y="1320480"/>
                <a:ext cx="137880" cy="10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79160" y="1328760"/>
                <a:ext cx="137520" cy="10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5194800" y="3070080"/>
                <a:ext cx="5110920" cy="513360"/>
              </a:xfrm>
              <a:prstGeom prst="flowChartTerminator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6508800" y="476640"/>
                <a:ext cx="746640" cy="5578560"/>
                <a:chOff x="6508800" y="476640"/>
                <a:chExt cx="746640" cy="5578560"/>
              </a:xfrm>
            </p:grpSpPr>
            <p:sp>
              <p:nvSpPr>
                <p:cNvPr id="720" name=""/>
                <p:cNvSpPr/>
                <p:nvPr/>
              </p:nvSpPr>
              <p:spPr>
                <a:xfrm flipV="1">
                  <a:off x="7238160" y="43880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08800" y="442980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7142400" y="43743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20760" y="44269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16200000">
                  <a:off x="6744960" y="426852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6833520" y="436860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7238160" y="51462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508800" y="51879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620760" y="51854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6200000">
                  <a:off x="6744960" y="502668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6200000">
                  <a:off x="6833520" y="512676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7238160" y="362556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508800" y="366768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7142400" y="36118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620760" y="36648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6200000">
                  <a:off x="6744960" y="350604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16200000">
                  <a:off x="6833520" y="360612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238160" y="28710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08800" y="29131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7142400" y="28576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620760" y="29102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16200000">
                  <a:off x="6744960" y="275184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16200000">
                  <a:off x="6833520" y="285192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7238160" y="209268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508800" y="21344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7142400" y="207900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620760" y="213192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16200000">
                  <a:off x="6744960" y="1973160"/>
                  <a:ext cx="26460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16200000">
                  <a:off x="6833520" y="207324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7238160" y="13219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508800" y="1364040"/>
                  <a:ext cx="0" cy="26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7142400" y="13082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620760" y="13615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16200000">
                  <a:off x="6744960" y="1202760"/>
                  <a:ext cx="264960" cy="2649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16200000">
                  <a:off x="6833520" y="1302840"/>
                  <a:ext cx="82440" cy="8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6200000">
                  <a:off x="4326120" y="3024720"/>
                  <a:ext cx="5110560" cy="513360"/>
                </a:xfrm>
                <a:prstGeom prst="flowChartTerminator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6200000">
                  <a:off x="4095360" y="2895120"/>
                  <a:ext cx="5578560" cy="741600"/>
                </a:xfrm>
                <a:prstGeom prst="flowChartTerminator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 rot="16200000">
                <a:off x="4949640" y="2940480"/>
                <a:ext cx="5578560" cy="741960"/>
              </a:xfrm>
              <a:prstGeom prst="flowChartTerminator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wire is moved through a magnetic field then a voltage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ross the ends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6800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f the wire is connected to a circuit then current will flow. The direction of induced current is determined by a right hand r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825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ght Hand Slap Ru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=direction of wir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direction of magnetic field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 force on a positive charge (ie direction of current fl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4648320" y="1932120"/>
            <a:ext cx="403848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size of this induced voltage is giv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V=B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(B=mag field streng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v=velocity of movem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=length of wire in fiel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known as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Faraday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ion of the induced current is such that it creates an opposing force on the motion that is caus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known as Lenz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16000" y="3068280"/>
            <a:ext cx="6552360" cy="3389400"/>
            <a:chOff x="1116000" y="3068280"/>
            <a:chExt cx="6552360" cy="3389400"/>
          </a:xfrm>
        </p:grpSpPr>
        <p:sp>
          <p:nvSpPr>
            <p:cNvPr id="772" name=""/>
            <p:cNvSpPr/>
            <p:nvPr/>
          </p:nvSpPr>
          <p:spPr>
            <a:xfrm>
              <a:off x="1116000" y="4518000"/>
              <a:ext cx="21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ffffff"/>
                  </a:solidFill>
                  <a:latin typeface="Arial"/>
                </a:rPr>
                <a:t>Opposing Force F=B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2541600" y="3068280"/>
              <a:ext cx="5126760" cy="3389400"/>
              <a:chOff x="2541600" y="3068280"/>
              <a:chExt cx="5126760" cy="338940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3391200" y="3068280"/>
                <a:ext cx="2354760" cy="3389400"/>
                <a:chOff x="3391200" y="3068280"/>
                <a:chExt cx="2354760" cy="3389400"/>
              </a:xfrm>
            </p:grpSpPr>
            <p:grpSp>
              <p:nvGrpSpPr>
                <p:cNvPr id="775" name=""/>
                <p:cNvGrpSpPr/>
                <p:nvPr/>
              </p:nvGrpSpPr>
              <p:grpSpPr>
                <a:xfrm>
                  <a:off x="4055040" y="3068280"/>
                  <a:ext cx="362160" cy="3389400"/>
                  <a:chOff x="4055040" y="3068280"/>
                  <a:chExt cx="362160" cy="3389400"/>
                </a:xfrm>
              </p:grpSpPr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4055040" y="3068280"/>
                    <a:ext cx="362160" cy="286560"/>
                    <a:chOff x="4055040" y="3068280"/>
                    <a:chExt cx="362160" cy="28656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4055040" y="3068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V="1">
                      <a:off x="4055040" y="30682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55040" y="3688560"/>
                    <a:ext cx="362160" cy="285840"/>
                    <a:chOff x="4055040" y="3688560"/>
                    <a:chExt cx="362160" cy="28584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405504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V="1">
                      <a:off x="405504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055040" y="4929480"/>
                    <a:ext cx="362160" cy="285840"/>
                    <a:chOff x="4055040" y="4929480"/>
                    <a:chExt cx="362160" cy="2858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405504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V="1">
                      <a:off x="405504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4055040" y="4309560"/>
                    <a:ext cx="362160" cy="285840"/>
                    <a:chOff x="4055040" y="4309560"/>
                    <a:chExt cx="362160" cy="2858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405504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flipV="1">
                      <a:off x="405504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4055040" y="5550840"/>
                    <a:ext cx="362160" cy="285840"/>
                    <a:chOff x="4055040" y="5550840"/>
                    <a:chExt cx="362160" cy="28584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405504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V="1">
                      <a:off x="405504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4055040" y="6171120"/>
                    <a:ext cx="362160" cy="286560"/>
                    <a:chOff x="4055040" y="6171120"/>
                    <a:chExt cx="362160" cy="28656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4055040" y="6171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V="1">
                      <a:off x="4055040" y="617112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4719600" y="3068280"/>
                  <a:ext cx="361800" cy="3389400"/>
                  <a:chOff x="4719600" y="3068280"/>
                  <a:chExt cx="361800" cy="33894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4719600" y="3068280"/>
                    <a:ext cx="361800" cy="286560"/>
                    <a:chOff x="4719600" y="3068280"/>
                    <a:chExt cx="361800" cy="28656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4719600" y="3068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V="1">
                      <a:off x="4719600" y="30682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4719600" y="3688560"/>
                    <a:ext cx="361800" cy="285840"/>
                    <a:chOff x="4719600" y="3688560"/>
                    <a:chExt cx="361800" cy="28584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47196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V="1">
                      <a:off x="47196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4719600" y="4929480"/>
                    <a:ext cx="361800" cy="285840"/>
                    <a:chOff x="4719600" y="4929480"/>
                    <a:chExt cx="361800" cy="2858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47196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V="1">
                      <a:off x="47196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4719600" y="4309560"/>
                    <a:ext cx="361800" cy="285840"/>
                    <a:chOff x="4719600" y="4309560"/>
                    <a:chExt cx="361800" cy="28584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47196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V="1">
                      <a:off x="47196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719600" y="5550840"/>
                    <a:ext cx="361800" cy="285840"/>
                    <a:chOff x="4719600" y="5550840"/>
                    <a:chExt cx="361800" cy="28584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47196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V="1">
                      <a:off x="47196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719600" y="6171120"/>
                    <a:ext cx="361800" cy="286560"/>
                    <a:chOff x="4719600" y="6171120"/>
                    <a:chExt cx="361800" cy="286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4719600" y="6171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V="1">
                      <a:off x="4719600" y="617112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5383800" y="3068280"/>
                  <a:ext cx="362160" cy="3389400"/>
                  <a:chOff x="5383800" y="3068280"/>
                  <a:chExt cx="362160" cy="3389400"/>
                </a:xfrm>
              </p:grpSpPr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383800" y="3068280"/>
                    <a:ext cx="362160" cy="286560"/>
                    <a:chOff x="5383800" y="3068280"/>
                    <a:chExt cx="362160" cy="28656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5383800" y="306864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flipV="1">
                      <a:off x="5383800" y="30682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383800" y="3688560"/>
                    <a:ext cx="362160" cy="285840"/>
                    <a:chOff x="5383800" y="3688560"/>
                    <a:chExt cx="362160" cy="2858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538380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flipV="1">
                      <a:off x="5383800" y="3688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383800" y="4929480"/>
                    <a:ext cx="362160" cy="285840"/>
                    <a:chOff x="5383800" y="4929480"/>
                    <a:chExt cx="362160" cy="28584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538380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flipV="1">
                      <a:off x="5383800" y="492948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5383800" y="4309560"/>
                    <a:ext cx="362160" cy="285840"/>
                    <a:chOff x="5383800" y="4309560"/>
                    <a:chExt cx="362160" cy="2858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538380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flipV="1">
                      <a:off x="5383800" y="430956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5383800" y="5550840"/>
                    <a:ext cx="362160" cy="285840"/>
                    <a:chOff x="5383800" y="5550840"/>
                    <a:chExt cx="362160" cy="28584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38380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flipV="1">
                      <a:off x="5383800" y="5550840"/>
                      <a:ext cx="36216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383800" y="6171120"/>
                    <a:ext cx="362160" cy="286560"/>
                    <a:chOff x="5383800" y="6171120"/>
                    <a:chExt cx="362160" cy="2865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5383800" y="617148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V="1">
                      <a:off x="5383800" y="6171120"/>
                      <a:ext cx="36216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3391200" y="3068280"/>
                  <a:ext cx="361800" cy="3389400"/>
                  <a:chOff x="3391200" y="3068280"/>
                  <a:chExt cx="361800" cy="3389400"/>
                </a:xfrm>
              </p:grpSpPr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391200" y="3068280"/>
                    <a:ext cx="361800" cy="286560"/>
                    <a:chOff x="3391200" y="3068280"/>
                    <a:chExt cx="361800" cy="28656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391200" y="306864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V="1">
                      <a:off x="3391200" y="30682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3391200" y="3688560"/>
                    <a:ext cx="361800" cy="285840"/>
                    <a:chOff x="3391200" y="3688560"/>
                    <a:chExt cx="361800" cy="28584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33912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V="1">
                      <a:off x="3391200" y="3688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3391200" y="4929480"/>
                    <a:ext cx="361800" cy="285840"/>
                    <a:chOff x="3391200" y="4929480"/>
                    <a:chExt cx="361800" cy="28584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3912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V="1">
                      <a:off x="3391200" y="492948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3391200" y="4309560"/>
                    <a:ext cx="361800" cy="285840"/>
                    <a:chOff x="3391200" y="4309560"/>
                    <a:chExt cx="361800" cy="28584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3912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V="1">
                      <a:off x="3391200" y="430956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3391200" y="5550840"/>
                    <a:ext cx="361800" cy="285840"/>
                    <a:chOff x="3391200" y="5550840"/>
                    <a:chExt cx="361800" cy="2858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3912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V="1">
                      <a:off x="3391200" y="5550840"/>
                      <a:ext cx="361800" cy="28584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3391200" y="6171120"/>
                    <a:ext cx="361800" cy="286560"/>
                    <a:chOff x="3391200" y="6171120"/>
                    <a:chExt cx="361800" cy="28656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391200" y="617148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flipV="1">
                      <a:off x="3391200" y="6171120"/>
                      <a:ext cx="361800" cy="286200"/>
                    </a:xfrm>
                    <a:prstGeom prst="line">
                      <a:avLst/>
                    </a:prstGeom>
                    <a:ln w="255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1" name=""/>
              <p:cNvSpPr/>
              <p:nvPr/>
            </p:nvSpPr>
            <p:spPr>
              <a:xfrm>
                <a:off x="4036320" y="3551040"/>
                <a:ext cx="3632040" cy="2486160"/>
              </a:xfrm>
              <a:prstGeom prst="roundRect">
                <a:avLst>
                  <a:gd name="adj" fmla="val 16667"/>
                </a:avLst>
              </a:prstGeom>
              <a:noFill/>
              <a:ln w="54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36320" y="4863600"/>
                <a:ext cx="1140120" cy="138600"/>
              </a:xfrm>
              <a:prstGeom prst="rightArrow">
                <a:avLst>
                  <a:gd name="adj1" fmla="val 50000"/>
                  <a:gd name="adj2" fmla="val 205649"/>
                </a:avLst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2896560" y="4863600"/>
                <a:ext cx="1139760" cy="138600"/>
              </a:xfrm>
              <a:prstGeom prst="rightArrow">
                <a:avLst>
                  <a:gd name="adj1" fmla="val 50000"/>
                  <a:gd name="adj2" fmla="val 205584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460840" y="4588200"/>
                <a:ext cx="1780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Direction of movemen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036320" y="4035240"/>
                <a:ext cx="0" cy="41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41600" y="3689640"/>
                <a:ext cx="1351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ff"/>
                    </a:solidFill>
                    <a:latin typeface="Arial"/>
                  </a:rPr>
                  <a:t>Induced current 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In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nduced voltage/current can be made larger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ag field is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wire is l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movement is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(Solenoid has an iron 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3:09:25Z</dcterms:created>
  <dc:creator>Administrator</dc:creator>
  <dc:description/>
  <dc:language>en-US</dc:language>
  <cp:lastModifiedBy>Administrator</cp:lastModifiedBy>
  <dcterms:modified xsi:type="dcterms:W3CDTF">2005-08-04T04:05:30Z</dcterms:modified>
  <cp:revision>8</cp:revision>
  <dc:subject/>
  <dc:title>Magnetism and Induction</dc:title>
</cp:coreProperties>
</file>